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CA2-9790-4C12-896F-B6FDD05E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C3D-8458-48A2-BD4F-FC9BF715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66F-8BF4-4AD7-9D8E-7FE21859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9FC-0F62-4348-BBCE-6B10AC53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882-346E-4DF1-8173-A50FA379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A80-AFB0-4286-BC14-94DAB52C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527-EE97-4B28-A21B-05E75301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C72-C334-4F9A-865C-27286A0D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9B1-D55C-4F4D-B7A8-7E741BD4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489-CEC0-4583-8C61-FB92BCE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E2B-D968-4EA8-B947-042C12F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9B8-3D64-4CCF-99D2-126484F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F072-8C12-4C6F-8FB3-7FCFF86072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DDFB-735C-4FC0-A0F5-88DA2D0A0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_x0017_Leaders_contentback.jpg                                        00EA0966_x000c_Macintosh HD                   BE75B02D: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urveymonkey.com/MySurvey_Responses.aspx?sm=YbOARjyvO0Wzgwe3r3qdpb7ahSOtMBR+iRzBSvFtHacRCMAb4rTGVshpQ+aSmrrP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eachertube.com/viewVideo.php?video_id=24700&amp;title=Pay_Attention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_x0015_Leaders_titleback.jpg                                          00EA0966_x000c_Macintosh HD                   BE75B02D:"/>
          <p:cNvPicPr/>
          <p:nvPr/>
        </p:nvPicPr>
        <p:blipFill>
          <a:blip r:embed="rId1"/>
          <a:stretch/>
        </p:blipFill>
        <p:spPr>
          <a:xfrm>
            <a:off x="3816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6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Digital Education Revolution-NSW </a:t>
            </a:r>
            <a:br>
              <a:rPr sz="2900"/>
            </a:b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Pedagogy: In Touch with </a:t>
            </a:r>
            <a:br>
              <a:rPr sz="2900"/>
            </a:b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New Tool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ose Bay Secondary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fessional Learning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2DFD-1D7A-430B-87B6-B3B170420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It’s not just the technolog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 5" descr=""/>
          <p:cNvPicPr/>
          <p:nvPr/>
        </p:nvPicPr>
        <p:blipFill>
          <a:blip r:embed="rId1"/>
          <a:stretch/>
        </p:blipFill>
        <p:spPr>
          <a:xfrm>
            <a:off x="987480" y="530280"/>
            <a:ext cx="7345440" cy="5151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428760" y="4952880"/>
            <a:ext cx="8429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verseas experience has shown that students using laptops are more enthusiastic about learning, improve a wide range of skills from writing to creativity and achieve higher academic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remember …. Laptops won’t just make this happen –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t’s what teachers and students do with them that will make the differ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6215040" y="6386400"/>
            <a:ext cx="264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ne –to-One Computing: 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K-12 Curriculum Directo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3C4-EBA7-483C-B96E-5D1531251E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Activity 2: The pedagogy is diffe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you Join your faculty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ppoint a rec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cuss your understanding of the differences between a TRADITIONAL learning environment and a ONE-to-ONE LAPTOP learning environment in terms of both  TEACHERS and STUD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cord your discussion using handout 4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0949-3D85-4E6D-AA9A-E85FC2A315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pedagogy is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536400" y="1584360"/>
            <a:ext cx="7998120" cy="4425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543800" y="5181480"/>
            <a:ext cx="11955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ne –to-One Computing: 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K-12 Curriculum Directo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4D9-6C8B-43BC-9268-7D3C3BFA3F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 one-to-one laptop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"/>
          <p:cNvPicPr/>
          <p:nvPr/>
        </p:nvPicPr>
        <p:blipFill>
          <a:blip r:embed="rId1"/>
          <a:stretch/>
        </p:blipFill>
        <p:spPr>
          <a:xfrm>
            <a:off x="444600" y="1523880"/>
            <a:ext cx="8248680" cy="45356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6F30-EE78-46C9-AEBE-FD995A460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What students need to know about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643720" y="642924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hristine Cawsey. Principal Rooty Hill 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5" descr=""/>
          <p:cNvPicPr/>
          <p:nvPr/>
        </p:nvPicPr>
        <p:blipFill>
          <a:blip r:embed="rId1"/>
          <a:stretch/>
        </p:blipFill>
        <p:spPr>
          <a:xfrm>
            <a:off x="1365120" y="1878120"/>
            <a:ext cx="6540480" cy="4303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285840" y="23623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ome Student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285840" y="35053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Many Student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85840" y="502920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Every Studen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C:\Documents and Settings\csimmons\Local Settings\Temporary Internet Files\Content.IE5\STYBGP6B\MCj04352530000[1].png"/>
          <p:cNvPicPr/>
          <p:nvPr/>
        </p:nvPicPr>
        <p:blipFill>
          <a:blip r:embed="rId2"/>
          <a:stretch/>
        </p:blipFill>
        <p:spPr>
          <a:xfrm>
            <a:off x="6858000" y="21337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31E3-3B5B-4D0D-A9BF-42DECE39CF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OLD and NEW learning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30200" y="1676520"/>
            <a:ext cx="87138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management and processing skills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ing NOT cop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ng, deconstructing, evaluating and synthesising (including deep skills in visual, graphic and audio tex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ing and constructing new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sk swi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tenc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ph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ion skills; intentional learning skills (to maintain a focus and avoid distr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6072120" y="6500880"/>
            <a:ext cx="25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hristine Cawsey. Principal Rooty Hill 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C6F8-B2F9-4EC7-8BF8-90EE1053C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hat OLD and NEW tools / strategies do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e need to have to begin to be successful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in a laptop learning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400" y="2285640"/>
            <a:ext cx="8429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a faculty group consider the following questions and record your responses.  (Handout 4.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are the OLD teaching and learning tools / strategies that we have that will continue to play a significant role in a one-to-one laptop environmen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NEW teaching and learning tools / strategies will become important  for the success of our teaching and learning in a one-to-one laptop environmen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are the key areas of support that we need as a group to successfully implement a one-to-one laptop environmen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an individual;  (Use Handout 4.1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Refer to your ‘personal vision’ index card (from: </a:t>
            </a: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Vision – Developing a vision for change)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 make a record of the new skills you would like to develop in order to achieve your vision in 12 months 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support will you need to achieve thi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will you do firs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Share your plan with your faculty te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C0B6-2E7B-47C6-8F58-76F72052C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ome words of encour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43040" y="1928880"/>
            <a:ext cx="441468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"...if we teach today as we taught yesterda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rob our children of tomorrow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Dew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https://detwww.det.nsw.edu.au/media/images/deptresources/templates/presentations/imagelib/content/large/gp01.gif"/>
          <p:cNvPicPr/>
          <p:nvPr/>
        </p:nvPicPr>
        <p:blipFill>
          <a:blip r:embed="rId1"/>
          <a:stretch/>
        </p:blipFill>
        <p:spPr>
          <a:xfrm>
            <a:off x="990720" y="1523880"/>
            <a:ext cx="3192480" cy="441972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647A-3856-43E6-A8A0-E4DA3B47CA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Common uses of laptops in a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one-to-on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Diagram 3" descr=""/>
          <p:cNvPicPr/>
          <p:nvPr/>
        </p:nvPicPr>
        <p:blipFill>
          <a:blip r:embed="rId1"/>
          <a:stretch/>
        </p:blipFill>
        <p:spPr>
          <a:xfrm>
            <a:off x="1676520" y="2176560"/>
            <a:ext cx="5717880" cy="374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csimmons\Local Settings\Temporary Internet Files\Content.IE5\8DM38HEV\MPj04393480000[1].jpg"/>
          <p:cNvPicPr/>
          <p:nvPr/>
        </p:nvPicPr>
        <p:blipFill>
          <a:blip r:embed="rId2"/>
          <a:stretch/>
        </p:blipFill>
        <p:spPr>
          <a:xfrm>
            <a:off x="4000680" y="4429080"/>
            <a:ext cx="1071360" cy="1000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6215040" y="6386400"/>
            <a:ext cx="264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ne –to-One Computing: 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K-12 Curriculum Directo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F1B0-B645-495A-AC2F-8868D91D7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Ideas for Faculty s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ular Callout 3"/>
          <p:cNvSpPr/>
          <p:nvPr/>
        </p:nvSpPr>
        <p:spPr>
          <a:xfrm>
            <a:off x="4419720" y="1752480"/>
            <a:ext cx="4343400" cy="4005360"/>
          </a:xfrm>
          <a:prstGeom prst="wedgeRoundRectCallout">
            <a:avLst>
              <a:gd name="adj1" fmla="val -70175"/>
              <a:gd name="adj2" fmla="val 10958"/>
              <a:gd name="adj3" fmla="val 1666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f you want to feel secure, do wha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ou already know how to do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f you want to be a true profe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nd continue to grow. . . go to the cutting edge of your compete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ich means a temporary los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 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o whenever you don't quite know what you're do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know you are grow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deline H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80880" y="1905120"/>
            <a:ext cx="3191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ollowing will allow staff to engage in a number of activit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hare some of the great things already happening in our classro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ample some of the tools that are available through the software on the laptop comp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nsider professional learning opportunities to be gained through working together to build confidence and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7977-432E-4E7B-81B3-2A49B70FE9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_x0015_Leaders_titleback.jpg                                          00EA0966_x000c_Macintosh HD                   BE75B02D:"/>
          <p:cNvPicPr/>
          <p:nvPr/>
        </p:nvPicPr>
        <p:blipFill>
          <a:blip r:embed="rId1"/>
          <a:stretch/>
        </p:blipFill>
        <p:spPr>
          <a:xfrm>
            <a:off x="3816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6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Digital Education Revolution-NSW </a:t>
            </a:r>
            <a:br>
              <a:rPr sz="2900"/>
            </a:b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Feedback from School Development Day.</a:t>
            </a:r>
            <a:br>
              <a:rPr sz="2900"/>
            </a:b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Our Survey</a:t>
            </a:r>
            <a:br>
              <a:rPr sz="2900"/>
            </a:b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urveymonkey.com/MySurvey_Responses.aspx?sm=YbOARjyvO0Wzgwe3r3qdpb7ahSOtMBR+iRzBSvFtHacRCMAb4rTGVshpQ+aSmrr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ose Bay Secondary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fessional Learning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B9A-266B-4BF0-96E1-22216D7F72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Professional Learning teams;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‘Its all about you!’. Its always about yo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of tutorials: Its about your individual learning to…. Investigate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Why do I need a PLN? Setting up your desktop, getting all the stuff into the reader. Your desk top in order.  All about PL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Beginner Wiki Wiki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Setting up your wiki classroom.. How it works.. In the real plac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Woodle, moodle, sloodle and all that stuf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What is the twitter all about! Using Edmodo in your classroom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What the heck is a ‘blog’ and how if-ever, will I use it, in my classroo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Whats on the netbook! Starting with ONENOT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For the Academics..what does the research say about online learning &amp; 1:1. Does it really work? An e-learning model for gifted students…. ‘work in progress’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Clickview.. Running 24/7 how it might work ..in your 1;1 classro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The gadgets: Wordle, glogster, teacher tube and vodpods…for your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Any Suggestions! love any suggestions!.. Put on the wiki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AD74-CFD9-42A5-933B-055B298E2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urvey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294920"/>
            <a:ext cx="84866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At the end of the day in summation these things came throug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CLASSROOM NEXT door! Take a peek.. You might like what you see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me and skill of teachers closest to us is valued. We have a breadth of fabulous ‘champions’ amongst 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re time to share and engage in professional dialogue about what is happening in the classroom next d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ME TO PLAY &amp; THEN SHAR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Need for hands on teacher learning, but acknowledge needs time and eff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asic know how classes to kick start so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: some got so hung up on the intricacies of the survey! Working or not working?? Interesting. … ‘like the question…won’t the battery run out of power’,…  it will if you let it…whose class will always have charged batteries? Who will have those expectations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shared thought’…FROM THE Survey.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future reference, the options in the survey, particularly the second page, did not allow me to put how I really felt. I may feel I can apply it in my classroom, even though I am only JUST beginning.--BEFORE I feel my needs are met. Perhaps the last 4 words are the ambiguous bit--do you mean 'meet our need for a kick in the butt!', or meet our need to feel completely confident with these emerging technologies? Not meaning to be critical--but this bit of the survey may not seem to feedback very positively , when actually everyone may have come a long way in the space of one day--I CERTAINLY DID! THANK YO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3350-7CE0-4FB5-9C31-1654BA6B16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4" descr="IMG_0279.JPG"/>
          <p:cNvPicPr/>
          <p:nvPr/>
        </p:nvPicPr>
        <p:blipFill>
          <a:blip r:embed="rId1"/>
          <a:srcRect l="-76005" t="0" r="-7600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43CF-3FAB-4ABC-BF5C-63B1225E9E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143000" y="685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ask ourselv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: What size learning ar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: You are ‘you’ siz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IMG_0279b.jpg"/>
          <p:cNvPicPr/>
          <p:nvPr/>
        </p:nvPicPr>
        <p:blipFill>
          <a:blip r:embed="rId1"/>
          <a:srcRect l="-76005" t="0" r="-7600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8E7C-BE40-4977-9E55-227DBA59D1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ession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447560"/>
            <a:ext cx="8334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At the end of this session participants will hav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flected on the reality of a growing digital society and its impact on schools and learning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sidered the responsibilities of teachers to provide relevant and engaging learning experiences for the students of this digital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sidered the ‘old’ &amp; ‘new’ skills required by students to be successful in a laptop learning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Faculty Se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ink about skills in terms of your own expertise to deliver in a laptop learning environment with Faculty colleag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at do I want to know about some of the “new tools” available in a laptop learn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D993-5F91-4121-99D9-EC06D09D99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6094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Just imagine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85880" y="3643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What do students expect to happen in terms of learning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What do teachers expect to happen in terms of teaching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How comfortable do you feel about this in terms of your teaching and learn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loud Callout 4"/>
          <p:cNvSpPr/>
          <p:nvPr/>
        </p:nvSpPr>
        <p:spPr>
          <a:xfrm>
            <a:off x="3581280" y="1143000"/>
            <a:ext cx="4714920" cy="2286000"/>
          </a:xfrm>
          <a:prstGeom prst="cloudCallout">
            <a:avLst>
              <a:gd name="adj1" fmla="val -50032"/>
              <a:gd name="adj2" fmla="val 55416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Calibri"/>
              </a:rPr>
              <a:t>It’s the end  of Term 3 2009 and every student in Yr 9 ( and many more in Yrs 10, 11 &amp; 12) have come to class with a laptop computer in their hand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00040" y="5857920"/>
            <a:ext cx="82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 Narrow"/>
                <a:ea typeface="Calibri"/>
                <a:hlinkClick r:id="rId1"/>
              </a:rPr>
              <a:t>http://teachertube.com/viewVideo.php?video_id=24700&amp;title=Pay_Attention</a:t>
            </a:r>
            <a:r>
              <a:rPr b="0" i="1" lang="en-AU" sz="14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Callout 9"/>
          <p:cNvSpPr/>
          <p:nvPr/>
        </p:nvSpPr>
        <p:spPr>
          <a:xfrm>
            <a:off x="500040" y="4643280"/>
            <a:ext cx="1643040" cy="1143000"/>
          </a:xfrm>
          <a:prstGeom prst="downArrowCallout">
            <a:avLst>
              <a:gd name="adj1" fmla="val 24998"/>
              <a:gd name="adj2" fmla="val 25003"/>
              <a:gd name="adj3" fmla="val 25000"/>
              <a:gd name="adj4" fmla="val 6497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Calibri"/>
              </a:rPr>
              <a:t>If you have an internet connection click the link below &amp; view the clip while staff are reflec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6FE8-59F1-425C-A5AB-3B957A369B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re we ready for a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Digital Education Revo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400" y="2214360"/>
            <a:ext cx="36147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April the NSWSPC asked principals to rate the readiness of teachers in their school for the roll out of laptops to Yr 9 students, to teachers and to other selected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643720" y="642924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hristine Cawsey. Principal Rooty Hill 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Content Placeholder 6"/>
          <p:cNvGraphicFramePr/>
          <p:nvPr/>
        </p:nvGraphicFramePr>
        <p:xfrm>
          <a:off x="4425840" y="1752480"/>
          <a:ext cx="40435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5840" y="1752480"/>
                    <a:ext cx="40435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B6A9-7151-4DD6-8AA3-1254EDDF00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ctivity 1: How ready are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the personal session log you have been given ( handout 4.1) put a mark to indicate your perceived readiness for teaching in a one-to-one laptop learning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01A-7C25-4A25-A133-278E872D0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1142640" y="4571640"/>
            <a:ext cx="7000920" cy="928800"/>
            <a:chOff x="1142640" y="4571640"/>
            <a:chExt cx="7000920" cy="928800"/>
          </a:xfrm>
        </p:grpSpPr>
        <p:sp>
          <p:nvSpPr>
            <p:cNvPr id="78" name="Text Box 14"/>
            <p:cNvSpPr/>
            <p:nvPr/>
          </p:nvSpPr>
          <p:spPr>
            <a:xfrm>
              <a:off x="1253880" y="4793040"/>
              <a:ext cx="963720" cy="7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 Narrow"/>
                </a:rPr>
                <a:t>High level of experti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3219120" y="4793040"/>
              <a:ext cx="965520" cy="7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 Narrow"/>
                </a:rPr>
                <a:t>Pockets of experti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5090760" y="4767840"/>
              <a:ext cx="963720" cy="7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 Narrow"/>
                </a:rPr>
                <a:t>Lots to Lear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7179840" y="4765680"/>
              <a:ext cx="963720" cy="7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 Narrow"/>
                </a:rPr>
                <a:t>Fearfu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AutoShape 18"/>
            <p:cNvCxnSpPr/>
            <p:nvPr/>
          </p:nvCxnSpPr>
          <p:spPr>
            <a:xfrm>
              <a:off x="1142640" y="4571640"/>
              <a:ext cx="68353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pic>
        <p:nvPicPr>
          <p:cNvPr id="83" name="Picture 19" descr="C:\Documents and Settings\csimmons\Local Settings\Temporary Internet Files\Content.IE5\6AHUYZNG\MCj04414250000[1].png"/>
          <p:cNvPicPr/>
          <p:nvPr/>
        </p:nvPicPr>
        <p:blipFill>
          <a:blip r:embed="rId1"/>
          <a:stretch/>
        </p:blipFill>
        <p:spPr>
          <a:xfrm>
            <a:off x="357120" y="4286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C:\Documents and Settings\csimmons\Local Settings\Temporary Internet Files\Content.IE5\6AHUYZNG\MCj04414250000[1].png"/>
          <p:cNvPicPr/>
          <p:nvPr/>
        </p:nvPicPr>
        <p:blipFill>
          <a:blip r:embed="rId2"/>
          <a:stretch/>
        </p:blipFill>
        <p:spPr>
          <a:xfrm>
            <a:off x="8143920" y="4214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2:31:04Z</dcterms:created>
  <dc:creator>csimmons</dc:creator>
  <dc:description/>
  <dc:language>en-US</dc:language>
  <cp:lastModifiedBy>Denise Lofts</cp:lastModifiedBy>
  <dcterms:modified xsi:type="dcterms:W3CDTF">2009-08-10T13:12:39Z</dcterms:modified>
  <cp:revision>139</cp:revision>
  <dc:subject/>
  <dc:title>Digital Education Revolution-NSW  Rationale : The Big picture </dc:title>
</cp:coreProperties>
</file>